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CE2-5216-4787-A421-A8DDFF8C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14F-F6CD-4C5E-9371-BAE5213C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ECE-B89E-46C0-BB7F-AC416BD9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F12-B913-4587-97D7-966ED3BC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398-1692-4F92-BB0F-A1FDB1D8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7F3-034B-47D3-AC57-8AB7049B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534-1A56-4A83-B94C-D237CE61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902-80BD-4FBD-A82D-9AEF0D91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CC6-6F09-4E06-9594-0E8B52B2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74F-3129-49F1-A90A-174C542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F7A-8961-45A2-BC63-DEB1A852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F06-F695-4F67-9CC5-76A09F6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0F52-5A5F-407F-B29D-5326E98BA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gency FB"/>
              </a:rPr>
              <a:t>BY: Katia Wag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gency FB"/>
              </a:rPr>
              <a:t>March 16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914400"/>
            <a:ext cx="7010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Earth Science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okerman"/>
              </a:rPr>
              <a:t>Rock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4019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895480" y="400068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781680" y="219060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1981080"/>
            <a:ext cx="1828800" cy="197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21337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Sedimentary Ro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343400" y="4267080"/>
            <a:ext cx="4800600" cy="2590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343400" y="2133720"/>
            <a:ext cx="4800600" cy="2361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0" y="44956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2133720"/>
            <a:ext cx="43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Igneous Rock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Metamorphic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</a:rPr>
              <a:t>Plate tecton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Sprea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Fracture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lliding bound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080" y="2209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iandra GD"/>
              </a:rPr>
              <a:t>Earthquak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480060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343400" y="3581280"/>
            <a:ext cx="4800600" cy="327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adley Hand ITC"/>
              </a:rPr>
              <a:t>Earthquake in Jap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nap ITC"/>
              </a:rPr>
              <a:t>Volcano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343400" y="335268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4343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7:28:22Z</dcterms:created>
  <dc:creator>kwagner</dc:creator>
  <dc:description/>
  <dc:language>en-US</dc:language>
  <cp:lastModifiedBy>kwagner</cp:lastModifiedBy>
  <dcterms:modified xsi:type="dcterms:W3CDTF">2011-03-17T17:45:02Z</dcterms:modified>
  <cp:revision>4</cp:revision>
  <dc:subject/>
  <dc:title>Slide 1</dc:title>
</cp:coreProperties>
</file>